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3815-BEF4-4A6B-B1B8-0484FA2C7B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224D-60A1-4D0B-96A7-56CDA715FD9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AB40-2FFE-4095-9856-2F80EB01D15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3D1F-21A6-4D22-862D-987FE39321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PFAS-Togo : Réseau des Champions en Plaidoyer pour le Financement Adéquat de la Santé au Tog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A1BB-70DA-45DC-B0CC-F3FD7C7355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D78D-51CC-4148-ACA6-A2DF972AB76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BF93-9980-4CE1-B909-794FAED382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A522-44C9-4977-A4A5-5ADF51B7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1829-9C57-4F4A-B043-D980F96F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824B-2A72-4DF3-8D7E-E6BAB9E2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421-F9D7-4BDB-96E7-0F0014B1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342-0616-437C-82DB-CBC4211E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5448-144E-4955-9FA1-B7A36ABB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B3C8-7B9F-4F46-8172-FF336575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33FF-4CEC-4D0D-B80C-EAF6FE86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8755-E5B2-4866-95C7-F9E00527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BCB-3D30-485A-BBC8-785BF03F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8AD6-1AB7-4FD5-B564-B21C92CE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D20-B596-4B70-8A50-17AD3249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B109-0877-434E-858C-5C05595EFAE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5DA4-546A-487C-85E6-3FF1770C0E2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w Cen MT"/>
                <a:ea typeface="Ebrima"/>
              </a:rPr>
              <a:t>REPUBLIQUE TOGOLAISE</a:t>
            </a:r>
            <a:br>
              <a:rPr sz="2800"/>
            </a:br>
            <a:r>
              <a:rPr b="1" lang="fr-FR" sz="1300" spc="-1" strike="noStrike">
                <a:solidFill>
                  <a:srgbClr val="005c00"/>
                </a:solidFill>
                <a:latin typeface="Arial Narrow"/>
                <a:ea typeface="Arial"/>
              </a:rPr>
              <a:t>MINISTERE DE LA SANTE ET DE LA PROTECTION SOCIA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2298-8BAB-47C4-AC9C-3B9DAFE1C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4"/>
          <p:cNvSpPr/>
          <p:nvPr/>
        </p:nvSpPr>
        <p:spPr>
          <a:xfrm>
            <a:off x="1116000" y="1628640"/>
            <a:ext cx="684072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419640" y="5300640"/>
            <a:ext cx="4824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d0d0d"/>
                </a:solidFill>
                <a:latin typeface="Arial Narrow"/>
              </a:rPr>
              <a:t>Lomé, 09 février 20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692360" y="4160880"/>
            <a:ext cx="6192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Calibri"/>
              </a:rPr>
              <a:t>Cadre institutionnel et modalités de mobilisation des financements domestiques pour la santé</a:t>
            </a: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835280" y="302904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70c0"/>
                </a:solidFill>
                <a:latin typeface="Arial Narrow"/>
                <a:ea typeface="MS Mincho"/>
              </a:rPr>
              <a:t>Dialogue national sur le financement de la santé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211920" y="341964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  <a:ea typeface="MS Mincho"/>
              </a:rPr>
              <a:t>_ _ _ _ _ _ _ _ _ _ _ __ 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l_fi" descr="http://www.republicoftogo.com/var/ezflow_site/storage/images/toutes-les-rubriques/medias/a-quelles-armoiries-se-vouer/27857-1-fre-FR/A-quelles-armoiries-se-vouer_article_top.jpg"/>
          <p:cNvPicPr/>
          <p:nvPr/>
        </p:nvPicPr>
        <p:blipFill>
          <a:blip r:embed="rId1"/>
          <a:srcRect l="1756" t="0" r="56632" b="15791"/>
          <a:stretch/>
        </p:blipFill>
        <p:spPr>
          <a:xfrm>
            <a:off x="4076640" y="1773360"/>
            <a:ext cx="9907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8920" y="1701360"/>
            <a:ext cx="8425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Togo, il y a une Assurance maladie à vocation universelle: IN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: 3 à 4 milliards par an de l’Etat en tant que part employeur (3,5% des salaires) pour 300.000 personnes (salariés et ayants droi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tisation des fonctionnaires de l’Etat : 3,5% des sal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ouverture d’une personne pour 1 an demande 22.000F  pour le panier actuel INAM (consultation, médicament, chirurgie, imagerie, lunetterie, prothè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moins 80% de la population active est  dans l’informel avec des revenus non maitris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19FE-4CEA-4573-86D9-EC8AF09CCC4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8920" y="1267920"/>
            <a:ext cx="8496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e la capacité contributive de la population:  étude en co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sur les mécanismes de collecte des contributions du secteur inform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’aller à la couverture universelle avec le panier actuel I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antage d’une caisse d’assurance maladie de recevoir aussi bien des subventions de l’Etat que des financements dédi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aire des études actuarielles pour proposer des options financières réalistes à l’Etat (panier, coût, financeme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3971-BEEE-4E76-881B-71171413ED4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836640"/>
            <a:ext cx="885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AM, caisse qui reçoit les cotisations employeurs et employés du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imites : statut et loi ne permettant pas d’enrôler d’autres bénéficiaires hors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mutuelles, couvrant 16.000 bénéficiaires pour 0,04% de dépense totale en santé en 2008 et d’assurances maladie privées  pour 2,3% des dépenses de santé (CNS, 2008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subventions de l’Etat: césarienne, indigents, dialyse, ARV, évacuation sanita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statut de l’INAM lui permet une gestion auton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ragmentation et diversité des fonds existants en matière de CSU, d’où une faible viabilité financière du systè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extension de la CSU  à toute la population pose la question de l’architecture appropriée  pour sa ges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pportunité de diminuer le paiement direct des ménages par la mutualisation des cotis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E70E-1923-4C03-95C3-26AE3F77F39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341000"/>
            <a:ext cx="8856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ff"/>
                </a:solidFill>
                <a:latin typeface="Calibri"/>
              </a:rPr>
              <a:t>RECOMMAND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Faire une évaluation pour bien apprécier l’efficacité et l’efficience de la gestion de INAM et les autres fo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Réviser  la loi sur l’assurance maladie obligatoire  et le décret portant organisation de l’INAM pour passer à l’échel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poser une structure unique qui englobe les structures existant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ener des actions vers les collectivités locales pour leur participation active dans la mobilisation des fon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7857-B079-488D-AF8A-5FC9A74F551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63504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Achat de services de santé par l’assurance maladie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7280" y="907920"/>
            <a:ext cx="85694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0000"/>
                </a:solidFill>
                <a:latin typeface="Calibri"/>
              </a:rPr>
              <a:t>CONSTAT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: IN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nier de soins assez large (consultation, médicament, labo, chirurgie, imagerie, lunetterie, prothèse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alités de payement: Tiers payant à l’acte avec base de taux de rembours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alibri"/>
              </a:rPr>
              <a:t>ANALY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assuré bénéficie d’un accès à de nombreux services curatifs sans barrière financiè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système INAM ne suffit pas à offrir des soins de qualité: disponibilité de soins non uniforme sur toute l’étendue du terri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recours aux soins a augmenté avec IN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éfinir un panier de soins de base pour tous qui répond aux besoins essentiels de la popul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er la qualité de l’offre de soins dans toute la pyramide sanit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tionnaliser l’offre de soins à travers un système de référence et contre-référ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6973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59EB-A371-46DE-9194-EDD754E4135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50920" y="260280"/>
            <a:ext cx="360360" cy="360360"/>
          </a:xfrm>
          <a:prstGeom prst="rect">
            <a:avLst/>
          </a:prstGeom>
          <a:solidFill>
            <a:srgbClr val="98480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B91D-5CFE-448C-BAA7-50B1D70495B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082960"/>
            <a:ext cx="8229600" cy="2692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1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roposer une plateforme nationale de mobilisation des ressources domestiques, sa composition, sa mission et la description des rôles et responsabilités de chaque acteur ou secteur mem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1260-3F24-4523-9623-B0D9F85E07B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ta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06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Existe-t-il déjà une plate-forme ou cadre institutionnel pour la mobilisation de financement domestique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 priori non, mais il existe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santé V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IHP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éseau des Champions en Plaidoyer pour le Financement Adéquat de la Santé au Togo (Association loi 1901) peu fonctionnel, mais a eu un résultat dans le financement de la PF (appui de AGIR PF pour élire un nouveau burea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lates-formes très larges, non focalisées sur le financement de la santé ou pas totalement fonctionnelles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C9AB-1D7F-48EF-B629-72307F49C05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nalyse des problè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ugmenter le financement domestique pour la sant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ppropriation à haut niveau de la problématique du financement domestique de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un cadre institutionnel de haut niveau pour la mobilisation et le suivi stratégique du financement domestique de la san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604a7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0588-8AE2-4534-855B-2D6AE7002DF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Recommand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ttre en place un comité de pilotage /cadre instituti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 mission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ccélérer les reformes pour la mobilisation adéquate des ressources publiques et privée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pour la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nt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8462-5BCE-4C64-9BF5-D3482731E2E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bjectifs du cadre institutionnel/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S’approprier toutes les initiatives et décisions en matière de mobilisation de ressources pour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poser des priorités pour la mobilisation de ressources financières en santé (stratégies, financements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ciliter les réformes pour la mise en œuvre des mécanismes de mobilisation de ressources additionnel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ire le suivi stratégique de la mise en œuvre du financement de la santé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ssurer un dialogue continu avec le groupe de plaidoyer (RCPFAS-Tog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0920" y="47628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65D9-3ECC-4BDD-A32E-664E5C9C2B4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omposition du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360" y="1915920"/>
            <a:ext cx="4392360" cy="40338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crage instituti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? Possible avec l’existence d’un  chargé des études sur le financement innovant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rgane technique en support pour assurer le fonctionnement du comité de pilotage (compétences en santé, protection sociale, finance, société civi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50920" y="40464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D4EB-9C2E-4E03-AFE0-A4A1ECC996D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108000" y="1125360"/>
            <a:ext cx="4319640" cy="57326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Représentativité multisectori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 de la Républ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imatu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San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planification du développ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s fina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Décentral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 du Comme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’économie numér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arl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ecteur priv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ociété Civile y compris les mé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8960" y="259920"/>
            <a:ext cx="8506080" cy="1081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nt 2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bilisation des financements domestiques pour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sources actuelles de financement 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xes pour l’Etat 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 privé y compris paiement direct des mén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Des modalités autour des réformes po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lus d’argent dans le budget Etat 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s innovants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ransformation d’une partie du paiement direct des ménages en cotis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lèche vers le bas 4"/>
          <p:cNvSpPr/>
          <p:nvPr/>
        </p:nvSpPr>
        <p:spPr>
          <a:xfrm>
            <a:off x="4211640" y="4941720"/>
            <a:ext cx="720720" cy="79092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oneTexte 5"/>
          <p:cNvSpPr/>
          <p:nvPr/>
        </p:nvSpPr>
        <p:spPr>
          <a:xfrm>
            <a:off x="900000" y="5805360"/>
            <a:ext cx="7344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c00000"/>
                </a:solidFill>
                <a:latin typeface="Calibri"/>
              </a:rPr>
              <a:t>Opportunité d’une caisse d’assurance maladie comme mécanisme de financement de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9F23-4D85-4FAF-A038-9FF183C822E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00000" y="2349360"/>
            <a:ext cx="7344000" cy="21592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2 revisité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collecte et de mise en commun des fonds et achat de services de santé par l’assurance maladie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2FEB-AA50-40A6-B658-86A39681D88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8600" y="259920"/>
            <a:ext cx="4684680" cy="1081080"/>
          </a:xfrm>
          <a:prstGeom prst="rect">
            <a:avLst/>
          </a:prstGeom>
          <a:noFill/>
          <a:ln w="76320">
            <a:solidFill>
              <a:srgbClr val="a6a6a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Point 2 : </a:t>
            </a:r>
            <a:r>
              <a:rPr b="0" i="1" lang="fr-CH" sz="2400" spc="-1" strike="noStrike">
                <a:solidFill>
                  <a:srgbClr val="7f7f7f"/>
                </a:solidFill>
                <a:latin typeface="Calibri"/>
              </a:rPr>
              <a:t>Déterminer les modalités de </a:t>
            </a: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mobilisation des financements domestiques pour la san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lèche vers le bas 4"/>
          <p:cNvSpPr/>
          <p:nvPr/>
        </p:nvSpPr>
        <p:spPr>
          <a:xfrm>
            <a:off x="1835280" y="1484280"/>
            <a:ext cx="504720" cy="720720"/>
          </a:xfrm>
          <a:prstGeom prst="downArrow">
            <a:avLst>
              <a:gd name="adj1" fmla="val 50000"/>
              <a:gd name="adj2" fmla="val 29498"/>
            </a:avLst>
          </a:prstGeom>
          <a:solidFill>
            <a:srgbClr val="d9d9d9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11:50:22Z</dcterms:created>
  <dc:creator>Administrator</dc:creator>
  <dc:description/>
  <dc:language>en-US</dc:language>
  <cp:lastModifiedBy>TOSHIBA</cp:lastModifiedBy>
  <dcterms:modified xsi:type="dcterms:W3CDTF">2017-02-09T08:09:01Z</dcterms:modified>
  <cp:revision>74</cp:revision>
  <dc:subject/>
  <dc:title>Groupe 2 : Cadre institutionnel et modalités de mobilisation des financements domestiques pour la santé</dc:title>
</cp:coreProperties>
</file>